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E9B-40E2-4D1A-AF17-DADEC757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A3D-29DD-4DCD-92F0-729B2259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FDA-9290-4098-A62D-4DEB519A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FE6-79DC-40E4-BFEF-15B2D6D8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397-231D-438D-B073-6382D9A3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DE6-AADC-4ACE-86A5-D76A8215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456-7C07-4110-927E-7E89E42A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0D9-6215-46EA-AA6B-7037BBEF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A71-9DD9-4373-89AF-8AE9E599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A06-C1C4-493D-884F-909EA8F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2F2-CBE9-4600-A0CF-8CCDD26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AD8-66E3-46F0-8F22-B10EBC4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C36D-41B0-4734-ADC8-B96C57447CA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Opinión pu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98989"/>
                </a:solidFill>
                <a:latin typeface="Arial"/>
                <a:ea typeface="Arial"/>
              </a:rPr>
              <a:t>La opinión publica se genera de alguna noticia o hecho que se cuenta a manera de algu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Los medios mantienen pautas que manejan para restringir tem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572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98989"/>
                </a:solidFill>
                <a:latin typeface="Arial"/>
                <a:ea typeface="Arial"/>
              </a:rPr>
              <a:t>Los medios  y el gobierno sobre todo son quienes moldean la información para crear ficciones o manejar alguna situación en parti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2884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98989"/>
                </a:solidFill>
                <a:latin typeface="Arial"/>
                <a:ea typeface="Arial"/>
              </a:rPr>
              <a:t>Los temas se manejan convenientemente, es por ello que la O.P se genera a partir de lo dicho y no va mas allá de pensarse debido a que ya han manejado la información previ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El manejo de información se maneja con algún fin, por ello el uso de diferentes factores que complementan la noticia son usados para crear ciertos impac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Algunos métodos utiliz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El dis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Las imág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Entrevistas que recaigan en lo que el entrevistado quiere dar a conoc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Anteponer tema para justificar un tema import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El uso de elementos que se usan para darle el visto bueno a los problem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El uso de temas que distraigan de un tema fue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85920" y="2214360"/>
            <a:ext cx="64008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898989"/>
                </a:solidFill>
                <a:latin typeface="Calibri"/>
              </a:rPr>
              <a:t>La OP esta limitada, debido a como se ha manejado el tema, de cómo se modifica la información para crearnos una sola idea que los medios quieren generar con respecto a una persona o situación en particular, es verdad, el individuo es libre de aportar ideas sobre lo que piense de un tema, pero es libre de saberlo hasta donde quieran los medios y no saber una total verdad de la información que censura o la misma que modifica para crear pensamientos fictici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23:53:01Z</dcterms:created>
  <dc:creator>ana belem sanchez izaguirre</dc:creator>
  <dc:description/>
  <dc:language>en-US</dc:language>
  <cp:lastModifiedBy>ana belem sanchez izaguirre</cp:lastModifiedBy>
  <dcterms:modified xsi:type="dcterms:W3CDTF">2009-09-20T00:27:03Z</dcterms:modified>
  <cp:revision>1</cp:revision>
  <dc:subject/>
  <dc:title>Opinión publica</dc:title>
</cp:coreProperties>
</file>